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1.png" ContentType="image/png"/>
  <Override PartName="/ppt/media/image10.png" ContentType="image/png"/>
  <Override PartName="/ppt/media/image6.jpeg" ContentType="image/jpeg"/>
  <Override PartName="/ppt/media/image28.jpeg" ContentType="image/jpeg"/>
  <Override PartName="/ppt/media/image7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30.jpeg" ContentType="image/jpeg"/>
  <Override PartName="/ppt/media/image31.jpeg" ContentType="image/jpeg"/>
  <Override PartName="/ppt/media/image19.jpeg" ContentType="image/jpeg"/>
  <Override PartName="/ppt/media/image25.png" ContentType="image/png"/>
  <Override PartName="/ppt/media/image13.png" ContentType="image/png"/>
  <Override PartName="/ppt/media/image33.gif" ContentType="image/gif"/>
  <Override PartName="/ppt/media/image22.gif" ContentType="image/gif"/>
  <Override PartName="/ppt/media/image18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3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553B-D5D9-4200-8E1A-EBD9F949F9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4E09-152E-4631-8AED-881A56B107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BE9D-25DE-4561-9BB9-A8B18E091F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903A-8504-4A0F-92FB-11EE2B5418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92DB-C64C-43E0-97DA-9CB22E3595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0518-D26A-4E08-AD34-90C79695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0FB-2D71-48ED-BC31-B2DEBAC6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283E-5814-4FFD-8E70-87C81304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481D-5431-4858-985F-ABBC3F75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A662-BF8F-4499-9181-584E2EF0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ECE9-1E52-44D3-BDB5-1C722C81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51F-681A-4B25-A5DE-D178F5DF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D280-4DC9-4A2E-B3A4-4EE8E7B7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EF9E-09EB-4EB6-9C1F-489DEA98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315A-023D-4AAD-B2D3-45627F19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CA67-81E1-4B23-9143-A857AD62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801F-9AAE-4568-8487-70CDF2E6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4EC2-5002-4B6C-BE02-18E4E18D98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askha.ru/images/postcards/big/04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недельник и вторник – «купальные». Обливали водой тех, кто проспал утренний молеб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реда – «градовая». «В среду на Светлой неделе не работают, чтобы хлеб градом не побило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Четверг – Пасха усопших, поминовение почивших родствен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ятница – «прощеный день». Родственники и друзья просили прощения друг у друга. Тесть и теща звали в гости молодых, обвенчавшихся до Пасх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уббота – хороводни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оскресенье – Красная горка. Обычно играли свадьбы, гуляли молод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1981080" y="3808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Светлая седьмиц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50" name="Picture 1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2" descr="506331292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4181400"/>
          </a:xfrm>
          <a:prstGeom prst="rect">
            <a:avLst/>
          </a:prstGeom>
          <a:ln w="0">
            <a:noFill/>
          </a:ln>
        </p:spPr>
      </p:pic>
      <p:sp>
        <p:nvSpPr>
          <p:cNvPr id="91" name="WordArt 4"/>
          <p:cNvSpPr txBox="1"/>
          <p:nvPr/>
        </p:nvSpPr>
        <p:spPr>
          <a:xfrm>
            <a:off x="533520" y="228600"/>
            <a:ext cx="82296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Рефлексия. "Раскрась пасхальное яйцо"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114440" y="837720"/>
            <a:ext cx="48769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Симво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Солнце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света и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Крест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Вселе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Треугольник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огня, бессмер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Ветка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веч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Цве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ookman Old Style"/>
              </a:rPr>
              <a:t>Красный</a:t>
            </a:r>
            <a:r>
              <a:rPr b="1" lang="ru-RU" sz="20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– цвет радости, жизни,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ookman Old Style"/>
              </a:rPr>
              <a:t>Желтый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посвящается солнцу, луне, звез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Bookman Old Style"/>
              </a:rPr>
              <a:t>Зеленый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изирует весну, прир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Сочетание красного и белого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благодарение Бога за защиту от з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33"/>
                </a:solidFill>
                <a:latin typeface="Bookman Old Style"/>
              </a:rPr>
              <a:t>Коричневый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плодородие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jajtsa50"/>
          <p:cNvPicPr/>
          <p:nvPr/>
        </p:nvPicPr>
        <p:blipFill>
          <a:blip r:embed="rId2"/>
          <a:stretch/>
        </p:blipFill>
        <p:spPr>
          <a:xfrm>
            <a:off x="7467480" y="5383080"/>
            <a:ext cx="1676520" cy="147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57266945_ppasha"/>
          <p:cNvPicPr/>
          <p:nvPr/>
        </p:nvPicPr>
        <p:blipFill>
          <a:blip r:embed="rId3"/>
          <a:stretch/>
        </p:blipFill>
        <p:spPr>
          <a:xfrm>
            <a:off x="1143000" y="4667400"/>
            <a:ext cx="3809880" cy="2190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57266945_ppasha"/>
          <p:cNvPicPr/>
          <p:nvPr/>
        </p:nvPicPr>
        <p:blipFill>
          <a:blip r:embed="rId4"/>
          <a:stretch/>
        </p:blipFill>
        <p:spPr>
          <a:xfrm>
            <a:off x="-533520" y="4667400"/>
            <a:ext cx="3810240" cy="2190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586719179"/>
          <p:cNvPicPr/>
          <p:nvPr/>
        </p:nvPicPr>
        <p:blipFill>
          <a:blip r:embed="rId5"/>
          <a:stretch/>
        </p:blipFill>
        <p:spPr>
          <a:xfrm>
            <a:off x="838080" y="2590920"/>
            <a:ext cx="320040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23662706_i3"/>
          <p:cNvPicPr/>
          <p:nvPr/>
        </p:nvPicPr>
        <p:blipFill>
          <a:blip r:embed="rId1"/>
          <a:stretch/>
        </p:blipFill>
        <p:spPr>
          <a:xfrm>
            <a:off x="838080" y="914400"/>
            <a:ext cx="7721640" cy="5715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jajtsa50"/>
          <p:cNvPicPr/>
          <p:nvPr/>
        </p:nvPicPr>
        <p:blipFill>
          <a:blip r:embed="rId2"/>
          <a:stretch/>
        </p:blipFill>
        <p:spPr>
          <a:xfrm>
            <a:off x="7086600" y="5048280"/>
            <a:ext cx="2057400" cy="1809720"/>
          </a:xfrm>
          <a:prstGeom prst="rect">
            <a:avLst/>
          </a:prstGeom>
          <a:ln w="0">
            <a:noFill/>
          </a:ln>
        </p:spPr>
      </p:pic>
      <p:sp>
        <p:nvSpPr>
          <p:cNvPr id="99" name="WordArt 4"/>
          <p:cNvSpPr txBox="1"/>
          <p:nvPr/>
        </p:nvSpPr>
        <p:spPr>
          <a:xfrm>
            <a:off x="1219320" y="228600"/>
            <a:ext cx="655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е игры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38098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квозь полудрему и 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лышу малиновый звон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то — рассвета гонцы 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В травах звенят бубен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то — средь русских равн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Вспыхнули гроздья ряб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то — в  родимой гл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Что-то коснулось  ду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Припе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Малиновый звон на зар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кажи своей милой зем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Что я в нее с  детства влюбл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Как в  этот малиновый зв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990720" y="152280"/>
            <a:ext cx="761976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Малиновый звон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02" name="Picture 9" descr="4198871_large"/>
          <p:cNvPicPr/>
          <p:nvPr/>
        </p:nvPicPr>
        <p:blipFill>
          <a:blip r:embed="rId1"/>
          <a:stretch/>
        </p:blipFill>
        <p:spPr>
          <a:xfrm>
            <a:off x="3581280" y="685800"/>
            <a:ext cx="3733920" cy="2489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69607600_lunapic_12957119009874_4"/>
          <p:cNvPicPr/>
          <p:nvPr/>
        </p:nvPicPr>
        <p:blipFill>
          <a:blip r:embed="rId2"/>
          <a:stretch/>
        </p:blipFill>
        <p:spPr>
          <a:xfrm>
            <a:off x="5791320" y="2590920"/>
            <a:ext cx="2966760" cy="2112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l_25352dc7"/>
          <p:cNvPicPr/>
          <p:nvPr/>
        </p:nvPicPr>
        <p:blipFill>
          <a:blip r:embed="rId3"/>
          <a:stretch/>
        </p:blipFill>
        <p:spPr>
          <a:xfrm>
            <a:off x="3505320" y="43434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1_2"/>
          <p:cNvPicPr/>
          <p:nvPr/>
        </p:nvPicPr>
        <p:blipFill>
          <a:blip r:embed="rId4"/>
          <a:stretch/>
        </p:blipFill>
        <p:spPr>
          <a:xfrm>
            <a:off x="3657600" y="2057400"/>
            <a:ext cx="5257800" cy="3733920"/>
          </a:xfrm>
          <a:prstGeom prst="rect">
            <a:avLst/>
          </a:prstGeom>
          <a:ln w="0">
            <a:noFill/>
          </a:ln>
        </p:spPr>
      </p:pic>
      <p:pic>
        <p:nvPicPr>
          <p:cNvPr id="106" name="_malinovyj_zvon.mp3" descr=""/>
          <p:cNvPicPr/>
          <p:nvPr/>
        </p:nvPicPr>
        <p:blipFill>
          <a:blip r:embed="rId5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32037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51239094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7"/>
          <p:cNvSpPr txBox="1"/>
          <p:nvPr/>
        </p:nvSpPr>
        <p:spPr>
          <a:xfrm>
            <a:off x="914400" y="380880"/>
            <a:ext cx="746748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ое угощени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8006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ажное место в пасхальном ритуа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занимала е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Яй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Кул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Мясные бл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436551004"/>
          <p:cNvPicPr/>
          <p:nvPr/>
        </p:nvPicPr>
        <p:blipFill>
          <a:blip r:embed="rId2"/>
          <a:stretch/>
        </p:blipFill>
        <p:spPr>
          <a:xfrm>
            <a:off x="762120" y="1371600"/>
            <a:ext cx="374328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3300"/>
                </a:solidFill>
                <a:latin typeface="Bookman Old Style"/>
              </a:rPr>
              <a:t>Кулич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– церковно – обрядовый хлеб круглой формы. Пекли его из сдобного, сладкого теста, наверху украшали крестом, белковой глазурью, цветным пше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646990668"/>
          <p:cNvPicPr/>
          <p:nvPr/>
        </p:nvPicPr>
        <p:blipFill>
          <a:blip r:embed="rId1"/>
          <a:stretch/>
        </p:blipFill>
        <p:spPr>
          <a:xfrm>
            <a:off x="2362320" y="2666880"/>
            <a:ext cx="3962160" cy="3552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5"/>
          <p:cNvSpPr txBox="1"/>
          <p:nvPr/>
        </p:nvSpPr>
        <p:spPr>
          <a:xfrm>
            <a:off x="457200" y="685800"/>
            <a:ext cx="82296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Творожная пасха (паска)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343040" y="167652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асха (паска) - творог со сливками или сметаной, спрессованный в виде усеченной пирамидки. По церковно-славянски она называется "млеко огустевшее". На боковых ее сторонах изображается крест и буквы "ХВ", что означает "Христос Воскресе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0_5a254_3ebc3d41_XL"/>
          <p:cNvPicPr/>
          <p:nvPr/>
        </p:nvPicPr>
        <p:blipFill>
          <a:blip r:embed="rId2"/>
          <a:stretch/>
        </p:blipFill>
        <p:spPr>
          <a:xfrm>
            <a:off x="380880" y="1600200"/>
            <a:ext cx="370836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352320" y="1295280"/>
            <a:ext cx="5334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е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представить себе пасхальное поздравление без расписанного яйца. Обычай обмениваться на Пасху красным яйцом, говоря «Христос Воскресе!», очень давний. Христос дал нам жизнь, а яйцо — это знак жизни. Все христиане и приветствуют друг друга красным яйцом как знаком вечно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0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600200"/>
            <a:ext cx="2946600" cy="4525920"/>
          </a:xfrm>
          <a:prstGeom prst="rect">
            <a:avLst/>
          </a:prstGeom>
          <a:ln w="1908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WordArt 9"/>
          <p:cNvSpPr txBox="1"/>
          <p:nvPr/>
        </p:nvSpPr>
        <p:spPr>
          <a:xfrm>
            <a:off x="1523880" y="457200"/>
            <a:ext cx="632484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ое яйцо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-34920"/>
            <a:ext cx="9164520" cy="6892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4541760" y="3638520"/>
            <a:ext cx="4443480" cy="2828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7772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Каждое яйцо имеет своё им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Объект 2" descr=""/>
          <p:cNvPicPr/>
          <p:nvPr/>
        </p:nvPicPr>
        <p:blipFill>
          <a:blip r:embed="rId3"/>
          <a:stretch/>
        </p:blipFill>
        <p:spPr>
          <a:xfrm>
            <a:off x="1085760" y="1073160"/>
            <a:ext cx="6997680" cy="2146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4"/>
          <a:stretch/>
        </p:blipFill>
        <p:spPr>
          <a:xfrm>
            <a:off x="171360" y="3713040"/>
            <a:ext cx="3973680" cy="2754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2" descr=""/>
          <p:cNvPicPr/>
          <p:nvPr/>
        </p:nvPicPr>
        <p:blipFill>
          <a:blip r:embed="rId2"/>
          <a:stretch/>
        </p:blipFill>
        <p:spPr>
          <a:xfrm>
            <a:off x="0" y="0"/>
            <a:ext cx="5956200" cy="6797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7126200" y="3398760"/>
            <a:ext cx="1666800" cy="1381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4"/>
          <a:stretch/>
        </p:blipFill>
        <p:spPr>
          <a:xfrm>
            <a:off x="7070760" y="476280"/>
            <a:ext cx="1666800" cy="1380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5"/>
          <a:stretch/>
        </p:blipFill>
        <p:spPr>
          <a:xfrm>
            <a:off x="5137200" y="3398760"/>
            <a:ext cx="1666800" cy="1381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6"/>
          <a:stretch/>
        </p:blipFill>
        <p:spPr>
          <a:xfrm>
            <a:off x="5083200" y="549360"/>
            <a:ext cx="1666800" cy="13809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5027760" y="1930320"/>
            <a:ext cx="17762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красили яйцо в жёлтый цвет, нанесли капли воск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 flipH="1">
            <a:off x="7015320" y="1930320"/>
            <a:ext cx="177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Окунули в оранжевую краску, ещё покапали вос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5141880" y="4843440"/>
            <a:ext cx="1733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Покрасили в красный цвет. Осталось снять воск и натереть яйцо подсолнечным масл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7126200" y="4869000"/>
            <a:ext cx="173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Вот такое забавное яйцо получаетс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-38160" y="0"/>
            <a:ext cx="9182160" cy="7062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3165480" y="4792680"/>
            <a:ext cx="2739960" cy="206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TextBox 4"/>
          <p:cNvSpPr/>
          <p:nvPr/>
        </p:nvSpPr>
        <p:spPr>
          <a:xfrm>
            <a:off x="108000" y="189000"/>
            <a:ext cx="8856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нки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йца, раскрашенные от руки сюжетными или орнаментальными узорами. Это искусно расписанные пасхальные яйца, настоящие произведения народного творч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исунка писанки используют элементы растите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ивотного мира, геометрические фиг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нку не рисовали, не расписывали, а писали на сыром курином яйце. Эти яйца хранили целый год, как обере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яйца линиями своих узоров как бы напоминают о бичевании Христа. Поэтому красить и расписывать яйца положено в особый день на Страстной седмице (неделе) - в Великий четверг или Великую пятн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108000" y="4792680"/>
            <a:ext cx="2755800" cy="206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6215040" y="4784760"/>
            <a:ext cx="2749680" cy="205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льное яйцо, зарытое на огороде или на поле, обеспечит плодородие и богатый урож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Яйцо, спрятанное в хлеву, спасет от болезней скот, увеличит надои мол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 Пасху небо ясное и солнце играет – к хорошему урожаю и красному л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 Пасху дождь – к урож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 второй день ясная погода  - лето будет сухо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88" name="WordArt 6"/>
          <p:cNvSpPr txBox="1"/>
          <p:nvPr/>
        </p:nvSpPr>
        <p:spPr>
          <a:xfrm>
            <a:off x="2286000" y="228600"/>
            <a:ext cx="655308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Народные приметы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89" name="Picture 7" descr="467711866"/>
          <p:cNvPicPr/>
          <p:nvPr/>
        </p:nvPicPr>
        <p:blipFill>
          <a:blip r:embed="rId2"/>
          <a:stretch/>
        </p:blipFill>
        <p:spPr>
          <a:xfrm>
            <a:off x="228600" y="0"/>
            <a:ext cx="1905120" cy="1247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4-02-01T14:16:4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